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D38-99DE-4B67-AABE-6D630A66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4B2-6CE6-40E0-8B6E-39C9696B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7A5-A0F5-45F8-B820-4BDB34E0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72D-DCA4-4FD8-A0E7-1DBAED21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0CC-6AA5-4820-AF31-34E63895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C63-F373-408B-B22A-38CE7634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021-5809-4D0B-8BAF-9A51788B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491-438E-4ABB-8A2A-EF5851C6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958-60F6-44AE-B12E-FCB6EEB6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283-6E0A-4FD4-AA18-B6EE2B9C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19A-39EF-4F4B-B118-53F354A1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13C-9DE2-4A77-9463-826D41F6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9606-0E5A-4597-B9E0-CA3E68725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507470/student_view0/chapter3/animation__mrna_synthesis__transcription___quiz_1_.html" TargetMode="External"/><Relationship Id="rId2" Type="http://schemas.openxmlformats.org/officeDocument/2006/relationships/hyperlink" Target="http://www-class.unl.edu/biochem/gp2/m_biology/animation/gene/gene_a2.html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cs.whfreeman.com/thelifewire/content/chp12/1202001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xeculink.com/~ekimmel/mrna_flash.htm" TargetMode="External"/><Relationship Id="rId2" Type="http://schemas.openxmlformats.org/officeDocument/2006/relationships/hyperlink" Target="http://www.execulink.com/~ekimmel/mrna_flash.htm" TargetMode="External"/><Relationship Id="rId3" Type="http://schemas.openxmlformats.org/officeDocument/2006/relationships/hyperlink" Target="http://www.execulink.com/~ekimmel/mrna_flash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nimation &amp; qu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507470/student_view0/chapter3/animation__mrna_synthesis__transcription___quiz_1_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show animation of tran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-class.unl.edu/biochem/gp2/m_biology/animation/gene/gene_a2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&amp; qui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cs.whfreeman.com/thelifewire/content/chp12/120200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transcriptional Mod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ukaryotic cells,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tran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ill need to undergo three modifications before leaving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5’ Cap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en.wikipedia.org/wiki/File:5'_cap_structure.p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7-methyl guanosine is added to the start of the primary transcript to prevent digestion in the cytoplasm.  This is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’c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333520"/>
            <a:ext cx="380988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Poly-A 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200 adenine ribonucleotides are added to the 3’ end by poly-A poly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-A ta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al of In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ukaryotic genome consists of coding region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non-coding region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lice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ut the introns out of the primary transcript and rejoin the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al of Intron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ritannica.com/EBchecked/media/114928/Genes-are-made-up-of-promoter-regions-and-alternating-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24240" y="1981080"/>
            <a:ext cx="429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NA Transcript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biology.arizona.edu/molecular_bio/problem_sets/mol_genetics_of_eukaryotes/01t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RNA is ready to leave the nucleus for translation and it is now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RNA tran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3813120"/>
            <a:ext cx="77724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imation of post-transcriptional mod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xeculink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/~ekimmel/mrna_flash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where the DNA code is used to make a complementary mRNA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ain s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sandwalk.blogspot.com/2008/09/how-rna-polymerase-binds-to-dna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binds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r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06800" y="1981080"/>
            <a:ext cx="32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er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beside the start of a gene (upstream of the ge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site for RNA polymerase to bind to th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in adenine and thymine (easier to break H-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Image from: http://dna-rna.net/2011/08/24/rna-transcription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opens the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zes mRNA by adding ribonucleotides from 5’ to 3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2092320"/>
            <a:ext cx="38098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ate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DNA is used as a template for making the complementary mRNA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DNA is not used for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stat.berkeley.edu/users/terry/Classes/s260.1998/Week12/week12/node5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NA polymerase reache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or 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ranscription stops and mRNA is rel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021040"/>
            <a:ext cx="38098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nature.com/scitable/topicpage/translation-dna-to-mrna-to-protein-3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2273400"/>
            <a:ext cx="77724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iption Summary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tokresource.org/tok_classes/biobiobio/biomenu/transcription_translation/index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090880"/>
            <a:ext cx="77724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0:33:12Z</dcterms:created>
  <dc:creator>rubina khan</dc:creator>
  <dc:description/>
  <dc:language>en-US</dc:language>
  <cp:lastModifiedBy>rubina khan</cp:lastModifiedBy>
  <dcterms:modified xsi:type="dcterms:W3CDTF">2011-11-15T18:32:12Z</dcterms:modified>
  <cp:revision>71</cp:revision>
  <dc:subject/>
  <dc:title>Molecular Genetics</dc:title>
</cp:coreProperties>
</file>